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BFB1-459C-42C6-A1DA-74E4E670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A6E3-92B0-4BC6-BDE0-BD02FBBF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04603-FAD2-4DC7-B2D8-558CF9B5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C73F6-3E52-4F0B-99DF-847C3D86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833A5-8100-4FA5-B031-FAB054DD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AC253-6E62-4112-B3EC-E323B01E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197DE-F4D3-4093-BAE8-2A30B550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DBC6D-7D23-44F1-8B5C-981200D8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C2274-F3AD-43F5-ABAC-FABF1A9E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5246B-54B2-4355-867D-33C795A6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804B7-40C2-4031-9B9E-2B1D87CB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ACC8C-47A0-49FD-88AD-30A56DA3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3CEC-0FCA-4EB3-8A24-6405ECDB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B31C2-54C3-43F1-B48A-C27099E0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12BDD-EA63-40F3-AA04-3A01913C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92D9F-74E4-43C7-B3A8-E802C639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D3D3B-E440-4EEE-8DD7-665A4FC3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AC1D6-4E25-4EBC-A041-5D94D3F6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EFBF2-C678-4FF9-8228-53B1255A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06EC4-4FAA-42CD-A9EF-BD70109B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55480-CE10-4EE2-8173-6D04DA30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42C64-3373-41E7-AF1D-D02BEB4F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861EA-8C46-4610-AA3C-426CCFD4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2193-B6BA-4490-8CDB-4650CF45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27DFD-18BD-47E7-A52C-3D8DF78D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A8DB4-82A0-41CC-BF0A-AA9CF06B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AFC08-D45F-4B8D-BB8E-FF379373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EB972-8F37-46DC-8DCC-FD04C8E9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8ED57-8E96-4956-9A48-6F81A594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607D2-EE8C-4AB9-AE5B-E30C016A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DAD37-3989-48FC-89AE-DD0416F6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60493-591C-44AE-890F-E5D70B26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AA4C6-F873-4039-B596-91C57D2C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C28F1-5C90-4CAC-8572-30418173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38C6-404B-4666-9875-21ED55F6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CD889-9BB6-4D9A-936D-CA965861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F3EFD-85AA-4F05-A2CE-FA7E602D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21C87-69FE-4BCB-ACE3-D8BA6C71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1A6C1-8BF3-4168-8E9D-8D10E49C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6787F-E01F-4512-9B5A-E1CA8377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EF468-00FD-4A2B-BB26-93481489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89211-2AAF-4744-A678-FE6EFA4D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06A98-390C-4146-A5B6-F569DAAF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6F464-BB90-429E-B570-003D8D0B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E458D-35BD-4F76-ABE5-E7F1D690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2159-868A-42CE-A99E-5417BF9E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F4EBA-931D-4A58-9F04-C86597C8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AF900-4160-40CC-90F2-50161A25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C3994-AA0D-4970-9836-F7BE2FBF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D30DB-54D0-4145-8F3E-BDE6B8EF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5091B-B2A2-46DF-86E7-18DD30AD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EE067E-5B51-42FC-B0A2-22FC5B83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CA6687-50A1-4629-A7A7-D829CB8D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5CA2E8-FE61-4761-8EFA-A69A17E4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54C001-50BA-41F6-BFC5-A1D0B267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4A18CA-4C50-437C-954B-926A5CE1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546A-9E23-4C06-987F-F9136D6E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9CA57A-E694-4DE1-A6A2-DFB90A65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10790B-2E79-4E06-A94B-4804593D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E79714-B236-473F-9B11-635D9795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F85F9C-7127-42C0-B431-FCA2A3B0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C26DB-137A-4F16-A080-3D5C122D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2AF9F0-2CA1-4022-BA94-024D68BF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6317E4-D484-4C0B-B365-B4E70BB67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7E2A2A-272A-4D7B-AD6B-081F2EB2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BEB71D-2B7C-4240-B631-D8888F34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8508F6-78DB-4A7F-8A8F-E2076E79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ADB0-FB9C-4645-84AC-CEE6D129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4A8BDD-B31A-4DDD-ACD5-11366B7C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C9C4B2-DE78-4524-8732-EAE9B740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607101-B3F4-479F-93F3-FA946E88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45B038-C678-47D9-9819-40252ECD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331D1F-7C6E-4201-B876-F816B292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58C9D5-17C8-4997-A962-C42CF031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4ACB1F-09FF-4FFA-A396-F1788812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7AB7FD-B426-4DBC-A423-A854EFD2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B4D87B-4FEA-43ED-A1DF-838BF44BB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6EDCC4-8AAA-425B-9A06-434CC5B8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8FB2-C774-431B-9B41-51370E8C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07B5AB-92A8-498D-B59A-BDD3CA80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132637-D0EB-436B-8936-D04AB849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EB0AF9-60B8-4B75-A042-8CB6F188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F060CD-7D48-4BD4-942D-E8EE0619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63F193-44D5-4A0A-9408-9D6959C8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DEFE9B-56F3-4A84-AA55-D42774AF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40EC8E-3EB1-4A51-A551-1B40073C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138CF5-0EF8-44AD-AC77-A8A7FD74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8CBC0D-2BCF-4448-AC55-515BA109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7B6EC7-6C7C-4AC5-A434-632972CF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2D72-48A7-4626-9B11-ACED5BEB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5F21A8-1975-4947-AD06-A9871A88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90F3E1-4B97-4C62-935A-CB688AF1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2F8434-0057-4525-A636-BFF5869D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562FBD-B344-4ADA-9C34-9B7A4CA1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607521-4BA4-4922-974B-047EB672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B2C37E-F982-49EE-8293-E98E12CD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DA04AA-D8FF-460D-B2C5-48D266D0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F71530-C328-4065-89C8-B7A61392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E65561-A506-4814-B2D2-DB2F4011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4F2385-3064-40C1-AF53-82474E22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35EE-6CF6-408F-AFF1-956C2630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37F381-469C-44E8-893B-A0D20498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F921A1-15EF-4890-856F-8C93ADFB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FA1998-690F-488A-BD79-003508BD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5EE59A-E3A3-4593-92F5-2090F2E2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0468BB-CB57-41EA-95EA-A2632919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C5816F-2425-4057-A985-5D241C96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A4776D-6BCB-44B8-8A10-38CF2A1C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83FBF1-F917-4C7F-ABD9-A094C466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EC06B1-1475-4DA4-A7A7-F4889E22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743C04-E310-47B4-9A69-00FCDC35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2E1E-879B-4ADC-B3DE-8DA45C93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A1F4-CB32-40FF-BD05-E341BBDB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7E2545-5D9F-48D4-84B4-0A6CEBE2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C6A760-06A4-479A-8562-BAD71DC8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01919E-0B1F-4C1E-AE85-DF7850C1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8C33F5-9FEC-426C-A1F8-B9DB200B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EDD441-FCA3-4B43-9D27-05E59E3B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39154A-0110-42B6-B26B-990F9576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A2BE4A-B35A-4574-A396-FCBEB654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E10655-0653-4D53-9688-11C25AC1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A9B0CF-2073-4E8E-9819-8300B382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4F1571-7F8A-4D42-9C31-0A314289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CE86-7739-4C20-AAFC-E1B4773F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D0C166-08F8-4FF4-8D01-11E5A2E0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EDA552-F6E6-4D29-B3E9-7747D7A8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704F6E-5454-4790-A8DB-93D7B7FB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64CB5B-5B92-4158-964D-7E37EEE7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1F85E5-A5AF-4708-AB7D-B86ABE38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C0696A-384D-4072-8BB6-9A6A1EB3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684ECA-1EC7-4A69-BD79-D2D32D5E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7887D8-8F09-4B04-BB77-8DE49232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3720B4-CCFE-45B5-96FA-8896E833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559E2A-8E68-4ECD-94F8-B0BE36CA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8443-AF99-4CA3-B654-1926898F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882D7E-33F8-479E-B903-29FC2C3C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C0536E-013E-4DFA-8D3A-C7FB5DF8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1BA28B-16AD-4230-96E2-A3B1A923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FD762B-3B55-4CFE-9425-3D915090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1B6A7B-17C0-4308-8739-3B610470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5F7220-6DEA-48D0-BDF3-B4371BC2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34EE39-34F3-4C06-A21C-0C2F375C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D771AD-563F-416D-9A8F-808B7AF9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73C07C-D0DF-4A19-9D01-B79A2E28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5B087E-4EF1-4D61-BF70-7C457C41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6B3F-F5F4-40B4-8994-F567FFB3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7EF6B8-E92C-49BF-9002-DBED24E0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7811E2-6971-49F0-A6AE-83050ED6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B92E80-0D97-45A4-A59C-9ED51ABC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0162A0-7BC5-41C1-8E40-76B92990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774B2F-61B1-4879-9BBB-DB8D9914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31926C-EDFC-4A22-BE62-A4140540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C6A33B-C14E-493C-B49B-E65A1A44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A782BC-38C8-4E7F-8C4C-D6A27077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300360-5D23-4074-A92D-9D80109B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C7FD7D-198A-4440-94C8-B020EBFA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29C4-3856-4031-BD9F-B258E8959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3282A8-B7CB-4A60-A14B-1A70A197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D5F6B5-7EC8-4930-9624-3DB3C42C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536C7A-1673-40C8-A7D2-714EEA4F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234F69-B7EE-45A8-8858-BF2C909F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65A703-B557-4B91-B03D-2CF896AA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E06283-0B1A-4209-B25B-28F86393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35DBB7-8B1C-4CDA-8B00-F78C90B3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401BB6-076C-4DAE-81A7-1BDC9B86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02238F-9F00-4509-AA6B-45B054CE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9A8961-7FAB-4B27-8203-2034E67D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F1D77-E33F-45E2-AF3E-C8849194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7C611D-DF97-476C-A3DF-FCA9AE89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41BE74-D1AC-4912-8A49-B1115633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2F2762-23A2-4999-A63A-72E2E5B3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06C60-8628-4CAC-8085-0BC2B672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2CAF0-9111-4F99-A684-01721D71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6B519-D919-4091-9238-25970823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AE0BE-9ADA-4072-83F3-20AAE1F2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EA81-0F04-4E9A-B9B0-4AF83D75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6A13E-1A1E-42CB-A966-BFA14E63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E2A8F-F7D4-4E9A-BB4C-0B28013F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5BAA7-6889-4A97-8363-7B7C0F62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E6F98-F817-4EF1-9895-ADD70BE1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FADFA-1D48-4125-820D-24EBB1F4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CFC38-DBBB-4208-A389-38938B20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B2E9D-B697-413A-8324-127BA5A9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23818-AEF8-4D3C-A7EC-5DC17582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9014A-6281-40CA-B078-B59A850D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34811-BEEE-44FC-A197-ECC9EF71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CF6E-27C1-4540-9F4A-9E480170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130F0-A1D2-4FC1-AEFC-C660EB38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8DC6A-7C65-43B7-BC13-79BDBFF3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74B3B-9BB8-4FD4-8A6E-B6948AFD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576FC-243B-48D4-B849-8B93A673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CB755-7BB4-4AAC-ACEC-329A07AD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2B858-45E1-448A-A550-E3B95970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4AED0-909D-4548-B049-512DF5DD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9A710-651B-4B94-9BF3-443D973D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4E6F8-783D-46B3-BDF3-2E0CC779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7CDAF-547E-42D5-A36E-CA657AF8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1180-2401-48C9-8DC9-E5C630AA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16537-7A21-4ECC-9AF3-3AB6991F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5B8B2-BCE7-4F8C-AC55-2DB1F349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54502-513D-48A7-906E-99E76DC0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95401-602A-4E54-9A3F-C116C82B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7B9A0-D024-461D-A608-A842FFC9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F087D-D9B8-43A0-AEAF-CB19205C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3F0DC-249A-406B-9FF5-E7726BA9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4CA67-8441-494C-B14A-41351744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7F4E5-B3E2-4CF6-AA27-59C586D3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92D06-35C4-4D74-B1E8-098B2425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95E3-CC61-4E89-B7C1-6871DD0C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ACB65-9853-41F2-BCC9-20CD4F16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85405-C000-42A6-B6A7-82718780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F5892-9781-465F-8C6B-EB7B0DE7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F8EBE-2521-4F43-9CBE-B35CC0C0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510FA-2720-4295-96C3-1B7E1334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68ED1-5597-463F-A797-57B8FB50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62472-F205-46AC-93A3-1E555C78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EC523-91D7-4B8A-9440-5C26C60C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68E86-5671-4676-ABAA-5B3948A2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B66AC-9B9F-4599-A150-113F96F9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D9DF-55A7-4503-99E9-3302278C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E38F8-F8C6-4BB5-8A74-666FDF90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4B86D-7BC7-42CD-B829-A63B6F1E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A38FA-8A3D-461C-B897-6E4B3EE8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E2472-72B2-4DAF-B23F-F6A1C727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0BB51-CF02-4783-B143-BF37AE1D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B3EB1-841C-4AA3-A778-B5A64921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7FBD7-3140-4539-A601-9C96AC89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18601-B21E-4D98-9F7F-3B88CEFB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1FE06-A87C-4857-95E2-68F6CC46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E22DE-9BF0-49E4-A77C-236029EF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6028-7730-4692-AB74-98DC3C67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A453B-0FAE-480F-ADB0-27DE34BB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88848-C578-431B-BDCB-18BD6675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71130-B905-461D-8085-ED123CA0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3B288-3AE3-4CFE-8ACF-26FB13C1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1D730-1CB8-48DE-8B3B-15D6A7E6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07F04-2CC7-4470-96B4-65B4D004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A1EDC-E575-4E3B-B14C-14BEEF07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EAEB1-2EDA-4B37-8310-283D9E49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E8F67-4856-4F18-8C9A-D9675367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3A5C3-E014-445D-9B59-C24FC29D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9B67-E9F3-4F74-B92B-E5849D30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14F48-13FE-4338-85DA-6218FA18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A3EBB-C2F4-4706-B37D-C36099A1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AB502-EE99-443C-88FF-C5FD3324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7BE20-1B53-4BC4-9B68-B2F4408A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E7E6B-EA51-4ACF-AE86-F7107699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C4EE6-0F53-4936-A6CF-073F2204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2352B-D102-42B3-8069-2E4C6CF2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7FC1D-5B02-40E0-9FB8-D84F6017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29D8D-A565-4AFD-8E3B-B516CD65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79994-FD00-4560-AD47-62DE767B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2EEA-34D9-4984-A700-73A2234CB2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9630-78CC-4903-A8A0-060F330F69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9A77-F773-4038-BFBE-2464CD2BD7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B4AB-7A46-4D53-89B6-E2284F9F1A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F26C-2892-44D0-A8F0-E44C3F441C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1B04-2600-42F0-8DBC-AE9E926963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7947-4835-4F73-B9F2-F6DDB76444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F53D-5ED5-4314-9947-EAA8CBAB17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22D7-445E-497C-BA69-DB8DC3042C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89F2-3F84-4B54-AD05-B3F0E51578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63C1-FBCE-429F-AD15-9AA230A0C9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CDDE-7692-49C9-A1E6-FF04A13CC3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3F67-B8E6-45A8-9B9C-B7AD42D4C8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CCD0-8C0B-4F4F-A57F-EA4F0B9654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0491-0B8C-43D9-B0EF-46E9BC4E41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9E44-B989-4C69-BD6D-32AE446F66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C8F6-FDE2-45C8-B6E0-6E9618FAFE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1329-62FE-4B95-AF20-2827339A39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853F-DAB0-4934-99DB-FE3BD095F0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ED12-07F3-4561-85E9-A9C35013B7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20A0-8E28-4B7C-934F-09E2B4BA32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C054-1574-417F-B12C-4313B1423F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DCFF-4163-4907-929D-36B7AD5EA6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AC7D-AF40-42EB-9BF6-4D4D1ADF5B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FD43-3A64-4320-BFBD-2653E3F70B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49D8-4D7C-4C0E-BD45-E9FCADCCF0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5067-C069-4ADE-B56D-00F23F53E1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F289-925F-42B0-98F2-F67F297DA3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5AAF-DCB9-41BB-8C6B-5426AEA1C9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23C7-4E19-48D6-B247-08C4D78046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7649-5D7A-475C-A4A6-DC414E1F27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0DB6-D3A3-4856-BCBC-D4326F75D9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60DC-1F1B-4255-9D9D-7BFBE4C9D1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ADB3-F1F1-4BE1-B1C9-FCE8E26649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7BFC-6E11-426C-871E-39BB6D82A0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00AD-C577-4419-8B80-D10EA8D2AB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E4E9-4D9A-4A74-AF93-3DFB839F9C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5613-D71D-46BB-B92E-507E3D7E26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8EC8-1348-442A-BD37-1E433AE5E7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ECDB-67C5-4055-A41F-D89D2FB5D8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538280" y="2967120"/>
            <a:ext cx="606744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69633" descr=""/>
          <p:cNvPicPr/>
          <p:nvPr/>
        </p:nvPicPr>
        <p:blipFill>
          <a:blip r:embed="rId1"/>
          <a:stretch/>
        </p:blipFill>
        <p:spPr>
          <a:xfrm>
            <a:off x="642960" y="1042920"/>
            <a:ext cx="7858080" cy="47721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2"/>
          <a:stretch/>
        </p:blipFill>
        <p:spPr>
          <a:xfrm>
            <a:off x="900000" y="1700280"/>
            <a:ext cx="4535640" cy="9367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539640" y="2722680"/>
            <a:ext cx="4535640" cy="9363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4"/>
          <a:stretch/>
        </p:blipFill>
        <p:spPr>
          <a:xfrm>
            <a:off x="395280" y="3860640"/>
            <a:ext cx="4535640" cy="9367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5"/>
          <a:stretch/>
        </p:blipFill>
        <p:spPr>
          <a:xfrm>
            <a:off x="971640" y="4883040"/>
            <a:ext cx="7561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图片 68609" descr=""/>
          <p:cNvPicPr/>
          <p:nvPr/>
        </p:nvPicPr>
        <p:blipFill>
          <a:blip r:embed="rId1"/>
          <a:stretch/>
        </p:blipFill>
        <p:spPr>
          <a:xfrm>
            <a:off x="847800" y="1690560"/>
            <a:ext cx="7448400" cy="34768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2"/>
          <a:stretch/>
        </p:blipFill>
        <p:spPr>
          <a:xfrm>
            <a:off x="1187280" y="2335320"/>
            <a:ext cx="7777440" cy="503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3"/>
          <a:stretch/>
        </p:blipFill>
        <p:spPr>
          <a:xfrm>
            <a:off x="826920" y="2952720"/>
            <a:ext cx="7777440" cy="9810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4"/>
          <a:stretch/>
        </p:blipFill>
        <p:spPr>
          <a:xfrm>
            <a:off x="684360" y="4019400"/>
            <a:ext cx="777708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图片 67585" descr=""/>
          <p:cNvPicPr/>
          <p:nvPr/>
        </p:nvPicPr>
        <p:blipFill>
          <a:blip r:embed="rId1"/>
          <a:stretch/>
        </p:blipFill>
        <p:spPr>
          <a:xfrm>
            <a:off x="919080" y="1268280"/>
            <a:ext cx="7305840" cy="226692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67586" descr=""/>
          <p:cNvPicPr/>
          <p:nvPr/>
        </p:nvPicPr>
        <p:blipFill>
          <a:blip r:embed="rId2"/>
          <a:stretch/>
        </p:blipFill>
        <p:spPr>
          <a:xfrm>
            <a:off x="642960" y="3778200"/>
            <a:ext cx="7858080" cy="23148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3"/>
          <a:stretch/>
        </p:blipFill>
        <p:spPr>
          <a:xfrm>
            <a:off x="4183200" y="1557360"/>
            <a:ext cx="649080" cy="7192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4"/>
          <a:stretch/>
        </p:blipFill>
        <p:spPr>
          <a:xfrm>
            <a:off x="7308720" y="1557360"/>
            <a:ext cx="649440" cy="7192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5"/>
          <a:stretch/>
        </p:blipFill>
        <p:spPr>
          <a:xfrm>
            <a:off x="4211640" y="2478240"/>
            <a:ext cx="649440" cy="71892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6"/>
          <a:stretch/>
        </p:blipFill>
        <p:spPr>
          <a:xfrm>
            <a:off x="7308720" y="2463840"/>
            <a:ext cx="649440" cy="71892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7"/>
          <a:stretch/>
        </p:blipFill>
        <p:spPr>
          <a:xfrm>
            <a:off x="2109960" y="4135320"/>
            <a:ext cx="649080" cy="719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8"/>
          <a:stretch/>
        </p:blipFill>
        <p:spPr>
          <a:xfrm>
            <a:off x="5133960" y="4121280"/>
            <a:ext cx="649440" cy="71892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9"/>
          <a:stretch/>
        </p:blipFill>
        <p:spPr>
          <a:xfrm>
            <a:off x="8101080" y="4121280"/>
            <a:ext cx="649080" cy="71892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10"/>
          <a:stretch/>
        </p:blipFill>
        <p:spPr>
          <a:xfrm>
            <a:off x="2124000" y="5027760"/>
            <a:ext cx="649440" cy="7189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11"/>
          <a:stretch/>
        </p:blipFill>
        <p:spPr>
          <a:xfrm>
            <a:off x="5133960" y="5027760"/>
            <a:ext cx="649440" cy="7189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12"/>
          <a:stretch/>
        </p:blipFill>
        <p:spPr>
          <a:xfrm>
            <a:off x="7913520" y="5041800"/>
            <a:ext cx="64944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6120" y="804960"/>
            <a:ext cx="8591760" cy="52480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5033880" y="2852640"/>
            <a:ext cx="649440" cy="10080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380360" y="2924280"/>
            <a:ext cx="649080" cy="10080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195640" y="4394160"/>
            <a:ext cx="649080" cy="10080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012000" y="4292640"/>
            <a:ext cx="649080" cy="6490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7812000" y="5027760"/>
            <a:ext cx="649440" cy="6490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2411280" y="5473800"/>
            <a:ext cx="129708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576360" y="1185840"/>
            <a:ext cx="7991280" cy="44863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4299120" y="2349360"/>
            <a:ext cx="574560" cy="4464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4327560" y="1816200"/>
            <a:ext cx="574560" cy="446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7093080" y="2349360"/>
            <a:ext cx="574560" cy="4464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7121520" y="1816200"/>
            <a:ext cx="574560" cy="446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5508720" y="3730680"/>
            <a:ext cx="1584360" cy="446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7"/>
          <a:stretch/>
        </p:blipFill>
        <p:spPr>
          <a:xfrm>
            <a:off x="4067280" y="4522680"/>
            <a:ext cx="309708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8373" descr=""/>
          <p:cNvPicPr/>
          <p:nvPr/>
        </p:nvPicPr>
        <p:blipFill>
          <a:blip r:embed="rId1"/>
          <a:stretch/>
        </p:blipFill>
        <p:spPr>
          <a:xfrm>
            <a:off x="662040" y="2610000"/>
            <a:ext cx="7819920" cy="16380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2843280" y="3659040"/>
            <a:ext cx="37447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7352" descr=""/>
          <p:cNvPicPr/>
          <p:nvPr/>
        </p:nvPicPr>
        <p:blipFill>
          <a:blip r:embed="rId1"/>
          <a:stretch/>
        </p:blipFill>
        <p:spPr>
          <a:xfrm>
            <a:off x="266760" y="843120"/>
            <a:ext cx="8610480" cy="51717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900000" y="5084640"/>
            <a:ext cx="2951280" cy="1081080"/>
          </a:xfrm>
          <a:prstGeom prst="rect">
            <a:avLst/>
          </a:prstGeom>
          <a:ln w="0">
            <a:noFill/>
          </a:ln>
        </p:spPr>
      </p:pic>
      <p:grpSp>
        <p:nvGrpSpPr>
          <p:cNvPr id="940" name="组合 57358"/>
          <p:cNvGrpSpPr/>
          <p:nvPr/>
        </p:nvGrpSpPr>
        <p:grpSpPr>
          <a:xfrm>
            <a:off x="1171440" y="3141720"/>
            <a:ext cx="7363080" cy="1914480"/>
            <a:chOff x="1171440" y="3141720"/>
            <a:chExt cx="7363080" cy="1914480"/>
          </a:xfrm>
        </p:grpSpPr>
        <p:pic>
          <p:nvPicPr>
            <p:cNvPr id="941" name="图片 57355" descr=""/>
            <p:cNvPicPr/>
            <p:nvPr/>
          </p:nvPicPr>
          <p:blipFill>
            <a:blip r:embed="rId3"/>
            <a:stretch/>
          </p:blipFill>
          <p:spPr>
            <a:xfrm>
              <a:off x="1171440" y="3313080"/>
              <a:ext cx="7363080" cy="15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2" name="Picture 1" descr=""/>
            <p:cNvPicPr/>
            <p:nvPr/>
          </p:nvPicPr>
          <p:blipFill>
            <a:blip r:embed="rId4"/>
            <a:stretch/>
          </p:blipFill>
          <p:spPr>
            <a:xfrm>
              <a:off x="4284720" y="3141720"/>
              <a:ext cx="2735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3" name="Picture 1" descr=""/>
            <p:cNvPicPr/>
            <p:nvPr/>
          </p:nvPicPr>
          <p:blipFill>
            <a:blip r:embed="rId5"/>
            <a:stretch/>
          </p:blipFill>
          <p:spPr>
            <a:xfrm>
              <a:off x="1619280" y="4552920"/>
              <a:ext cx="4176720" cy="503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6324" descr=""/>
          <p:cNvPicPr/>
          <p:nvPr/>
        </p:nvPicPr>
        <p:blipFill>
          <a:blip r:embed="rId1"/>
          <a:stretch/>
        </p:blipFill>
        <p:spPr>
          <a:xfrm>
            <a:off x="276120" y="1100160"/>
            <a:ext cx="8591760" cy="46576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2181240" y="2435400"/>
            <a:ext cx="649440" cy="502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4672080" y="3025800"/>
            <a:ext cx="576360" cy="446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7236000" y="2492280"/>
            <a:ext cx="576000" cy="4460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2843280" y="4076640"/>
            <a:ext cx="576360" cy="446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2814480" y="3543480"/>
            <a:ext cx="576360" cy="4460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7"/>
          <a:stretch/>
        </p:blipFill>
        <p:spPr>
          <a:xfrm>
            <a:off x="4643280" y="4076640"/>
            <a:ext cx="576360" cy="4460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8"/>
          <a:stretch/>
        </p:blipFill>
        <p:spPr>
          <a:xfrm>
            <a:off x="4643280" y="3543480"/>
            <a:ext cx="576360" cy="4460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9"/>
          <a:stretch/>
        </p:blipFill>
        <p:spPr>
          <a:xfrm>
            <a:off x="7308720" y="4076640"/>
            <a:ext cx="576360" cy="4460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0"/>
          <a:stretch/>
        </p:blipFill>
        <p:spPr>
          <a:xfrm>
            <a:off x="7236000" y="3543480"/>
            <a:ext cx="576000" cy="4460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1"/>
          <a:stretch/>
        </p:blipFill>
        <p:spPr>
          <a:xfrm>
            <a:off x="1116000" y="4624560"/>
            <a:ext cx="56880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5300" descr=""/>
          <p:cNvPicPr/>
          <p:nvPr/>
        </p:nvPicPr>
        <p:blipFill>
          <a:blip r:embed="rId1"/>
          <a:stretch/>
        </p:blipFill>
        <p:spPr>
          <a:xfrm>
            <a:off x="671400" y="1476360"/>
            <a:ext cx="7801200" cy="39052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1116000" y="3357720"/>
            <a:ext cx="3311640" cy="10792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900000" y="4451400"/>
            <a:ext cx="3311640" cy="10792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5364000" y="3284640"/>
            <a:ext cx="3311640" cy="10792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5435640" y="4581360"/>
            <a:ext cx="3311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54276" descr=""/>
          <p:cNvPicPr/>
          <p:nvPr/>
        </p:nvPicPr>
        <p:blipFill>
          <a:blip r:embed="rId1"/>
          <a:stretch/>
        </p:blipFill>
        <p:spPr>
          <a:xfrm>
            <a:off x="623880" y="1900080"/>
            <a:ext cx="7896240" cy="305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826920" y="2982960"/>
            <a:ext cx="3313440" cy="10080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684360" y="4076640"/>
            <a:ext cx="3313080" cy="10080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5003640" y="2867040"/>
            <a:ext cx="3313440" cy="10080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5003640" y="4019400"/>
            <a:ext cx="331344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图片 52231" descr=""/>
          <p:cNvPicPr/>
          <p:nvPr/>
        </p:nvPicPr>
        <p:blipFill>
          <a:blip r:embed="rId1"/>
          <a:stretch/>
        </p:blipFill>
        <p:spPr>
          <a:xfrm>
            <a:off x="633240" y="1066680"/>
            <a:ext cx="78775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2:40:3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